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EBBC-F6B2-4AEA-AFAC-0E7BE900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7970-0AB8-44EC-93C2-CE1A3C85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8716-DA94-4D1C-A948-AF7E50C2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6C39-5149-4524-B8CA-EE988CE0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19B9-AE7F-4865-B524-50BF9A55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B62-F458-4260-A3FE-13986D5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83D7-4A0F-4A87-80F2-5C810FB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CC6E-BEE7-4E7E-9CB6-12A5F8E3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EF11-0B40-437B-9052-4832FA10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30F-BE55-4DA4-A081-D8EEB833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6A6-1B8A-43FE-9E0F-2B0C629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ED62-12E1-49D3-96CC-659B06A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E29-6547-43AD-ABDD-40033B4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CE2-1669-404D-A5C9-9EBAFE0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1D4-6FBE-4248-AA7E-048C3E81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8EF1-7807-4074-98BC-C5B94522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7ADE-A5CE-4632-ACB0-DF09522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C7AF-E284-4A61-832D-0D7C2AF7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BF50-1F47-4B07-B6B8-A6AD8DCE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F354-289B-4F67-8231-EE658D83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CB9F-4DFC-4E12-BFD9-3561DB5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A36C-E413-4C5A-AAA3-35168D0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4EE4-B9BD-4E47-B597-FBA1AFEC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FCF8-7F25-46AF-98E5-5F2F515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89A-BC7C-41F6-8817-2C5799E82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C90-DC63-4C8D-9035-A6CDA8E70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formatique quantiqu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es et a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6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e par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ll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paradoxe E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instein-Podosky-Rose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2-83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découverte des possibilités de cryptograph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nne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eynma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étudie la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imulation universel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aide d’ordinateur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5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pose les premières « po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s quantiques » qui permett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velopper un modèle d’ordinateur univer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40AD-7487-4335-B5EE-B31BF8ED78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transformée de Fourier quantiqu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ppersmith et 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 celle-ci dans un algorithm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permettant de déterminer la période d’un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fo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 algorithme permettrait de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asser RS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e application pratique important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s aux pertes de cohérence par la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rrection  d’erreurs 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et Kitaev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8-?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pratique d’un ordinateur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0E09-3A66-473F-901F-DF08959C5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159A-35B6-4535-AC10-DA4FB25A80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b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st un système à deux états quantiques c-à-d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ecteur    à un espace complexe de Hilbert bidimens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rdinateur quantique univer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ensemble de    qubits dans lequel les opé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ivantes peuvent être réalisées expérimenta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préparé dans un état 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mesuré dans 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ensemble de portes logiques universelles peut être appliqué à n’importe quel sous-ensemble de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qubits ne peuvent évoluer autrement que via les        transformation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15696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279600"/>
            <a:ext cx="216000" cy="1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604360" y="402912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667640" y="4484520"/>
            <a:ext cx="93672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7785-7A2E-48D9-9D2B-96B5CC71C3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incip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 système physique réalisable f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simulé de façon arbitra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che par un ordinateur univer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utilisant des ressources finies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A49C7-6961-4C7D-B971-5EBEE9013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utilisation répétée d’une PU sur différentes combinaisons de qubits peut générer l’action de toutes les autres 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assiquement, seule une porte non linéaire à 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bits peut être réversible et univer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02000" y="4797360"/>
            <a:ext cx="2610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972E-9F61-42F3-9673-B15A18E2EE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quantiqu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Porte de Deutsch (basée sur l’idée de Toff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on suppose    incommensurable 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peut choisir la           puissance de R pou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orte univer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242892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992320" y="4229280"/>
            <a:ext cx="787680" cy="29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08720" y="4300560"/>
            <a:ext cx="1587600" cy="29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627280" y="3868560"/>
            <a:ext cx="127080" cy="21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84720" y="3935520"/>
            <a:ext cx="216000" cy="14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780000" y="2933640"/>
            <a:ext cx="2449440" cy="3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3E87-A138-4A37-A98C-EECEADB376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2712960"/>
            <a:ext cx="2276640" cy="1771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188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) Construction d’une porte quantique de Deutsch à pa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 portes à 2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e comporte comme une porte de Deutsch 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dans le cas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106800"/>
            <a:ext cx="5791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opérateur unitaire conditionnel et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NOT conditionnel (CNO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13120" y="3228840"/>
            <a:ext cx="216000" cy="1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4622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67640" y="4118040"/>
            <a:ext cx="1215720" cy="3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24FE-F1CA-4C91-A931-D39BBA19C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) Construction d’une porte     contôlée à partir de portes à 1 qubit et de portes 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mbinaison de portes CNOT à 2 qubits avec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s opérateur unitaire est donc adéquate pou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universelle d’algorithmes quant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29000" y="2111400"/>
            <a:ext cx="27144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3052800"/>
            <a:ext cx="237168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19640" y="3102120"/>
            <a:ext cx="551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          et      sont des opérateurs unitaire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2560" y="3218040"/>
            <a:ext cx="57636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03640" y="31748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57880" y="3751200"/>
            <a:ext cx="320652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4C9E-14FC-4B2D-A6E2-849CAB35F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7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hénomène d’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plupart des systèmes composites sont non-sé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46720" y="3444840"/>
            <a:ext cx="377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66960" y="4057560"/>
            <a:ext cx="323820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BBD2-DC94-4C8D-A53C-FB836CFD70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AAAD-D6C3-4F1A-A34F-B679DF881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72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énomène d’intrica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t un système    constitué de deux états séparés   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t les états appartiennent à des espaces de Hilb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parés (b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mplet de mesures sur    et  séparément (ex. observables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njoint de mesures sur    et    (ex. observables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03680" y="2151000"/>
            <a:ext cx="179280" cy="193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97880" y="3436920"/>
            <a:ext cx="250560" cy="250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16720" y="21067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064360" y="2139840"/>
            <a:ext cx="22068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339040" y="3465360"/>
            <a:ext cx="225360" cy="19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682720" y="2967120"/>
            <a:ext cx="1036800" cy="3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1684440" y="5440320"/>
            <a:ext cx="292392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652760" y="4245120"/>
            <a:ext cx="3000240" cy="30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5281560" y="3743280"/>
            <a:ext cx="881280" cy="31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589200" y="4948200"/>
            <a:ext cx="164016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7686720" y="4665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8326440" y="469728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1700280" y="5753160"/>
            <a:ext cx="31399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FB12-55E2-4B6F-9E41-12EE05DE8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 de Hadam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cas particulier de la matrice de rotation génér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 unitaire évidem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   qubits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te porte est utilisée pour la superposition des ét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71880" y="2511360"/>
            <a:ext cx="2825640" cy="84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57480" y="3946680"/>
            <a:ext cx="234720" cy="163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754360" y="4403880"/>
            <a:ext cx="4040280" cy="66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8867-BB26-4295-A293-93EF745C4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teraction avec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ets non unitai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pola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mission spon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pérateurs d’évolution non uni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ction de la mesure non orthog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2BB3-EC9F-4E39-8877-361814B11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3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avec l’environnemen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5640" y="2852640"/>
          <a:ext cx="7696080" cy="2432160"/>
        </p:xfrm>
        <a:graphic>
          <a:graphicData uri="http://schemas.openxmlformats.org/drawingml/2006/table">
            <a:tbl>
              <a:tblPr/>
              <a:tblGrid>
                <a:gridCol w="2815920"/>
                <a:gridCol w="1125720"/>
                <a:gridCol w="1878120"/>
                <a:gridCol w="18763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fr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éc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s par porte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s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In piég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té op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d’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point quan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nuclé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4D36-1CD4-4D9F-A676-F7CA5214E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926A-5E1A-4C35-91BF-1BF83EFA92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iège à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E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int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ordinateur de 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nctions Joseph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pological quantu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55960" y="2422440"/>
            <a:ext cx="38415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ECD5-4B4D-4671-8975-5A7AA77396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élange de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C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9F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amiltonien d’interaction spin-spin dû au nuage d’électr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195640" y="2627280"/>
            <a:ext cx="288108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259680" y="981000"/>
            <a:ext cx="19126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944720" y="5013360"/>
            <a:ext cx="5796000" cy="38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916360" y="545796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11280" y="6021360"/>
            <a:ext cx="3635640" cy="2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862D-6E97-4BF7-8341-95DB69D108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r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 combinant avec l’opér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  et en appliquant une porte de Hadamard 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à 2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obtient 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505240"/>
            <a:ext cx="79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63800"/>
            <a:ext cx="145260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084720" y="4359240"/>
            <a:ext cx="287640" cy="22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92360" y="4819680"/>
            <a:ext cx="2062440" cy="264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5076720" y="3936960"/>
            <a:ext cx="282420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B948-411F-4AED-A2B7-6E9694DFBE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per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tempor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application de l’opérate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art et d’autre, on renverse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 spin u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deux spins coup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20720" y="2509920"/>
            <a:ext cx="6264360" cy="77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289080" cy="165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68920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843280" y="5551560"/>
            <a:ext cx="525600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80C1-34B4-4954-B008-998831F7FD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topper l’évolution temporell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ation de 2 matrices de Hadamard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et -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le blocage comp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77080" y="213372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146640" y="2119320"/>
            <a:ext cx="297000" cy="23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5867280" y="3068640"/>
          <a:ext cx="2371680" cy="236700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6280"/>
                <a:gridCol w="474480"/>
                <a:gridCol w="473040"/>
              </a:tblGrid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356000" y="4508640"/>
            <a:ext cx="11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365436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40BD-566F-4D70-8E16-F51A419B1A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Loi de 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osants de plus en plus pet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on atteint la limite des effets quantique (cf réduction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taille de l’oxyde MOS et effet tunnel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 possib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nano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= astuces pour conserver les mécanismes class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(conduction, diffusi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INON changer complètement mécanismes et utiliser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ropriétés quant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QUE QUANTIQUE (Q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DA62-3B2B-45C3-AC02-2BCB64FC8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B24F-887C-4774-96E0-D111A050DA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Algorith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méliore mais ne change pas la cl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Grover 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change la classe du problème de la factorisa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 »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r le parallélisme pour simuler les effets quantiques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Lloy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752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9472-DB85-4E32-9BEA-E15D4BC6FD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ryp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ue sur l’intrication de qubits et sur la natur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tructive de la me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rrection d’err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des correcteurs (cf décoh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FD36-3B6A-4709-87FA-989F703FA3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4EEC-9986-4561-8199-9E424AB833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cun intérêt concret mais réalisé expérimentalement avec un qu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(0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 vers 0 ou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è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éterminer quelle proposition est vraie (ou une quelconque si les deux sont vra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i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équilib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DC79-801A-46CD-8D81-4C7D3B2C1C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6544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classiqu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 moins N+1 évaluation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ux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n+1 qubits (0 à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1 qubit (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ement préparés dans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003640" y="537372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C317-3501-4C27-822A-A8EB68D861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au premier registre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position des ét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 de f dans le deuxième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ation unitaire du deuxième regi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95920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259000" y="2349360"/>
            <a:ext cx="297000" cy="230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397240" y="2781360"/>
            <a:ext cx="4190760" cy="690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2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0CE8-6AB7-4894-A2C3-3C86D36DB5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’une phase condi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 calcul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équivalent au calcul de l’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3017880"/>
            <a:ext cx="7417080" cy="771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4360" y="5410080"/>
            <a:ext cx="784836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5AB5-F9F0-4FB8-B6A5-8388C71428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Étap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de Hadamard i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individuelle de tous les qubits du premier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abilité que tous les qubits soient à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5640" y="5738760"/>
            <a:ext cx="7488360" cy="507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40160" y="3065400"/>
            <a:ext cx="26179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3161-D5FE-4915-A481-0FCF6391EA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stant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équilibré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qubits mesurés sont 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équilibré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B) vra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 moins de qubits est à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constant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A) vra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 du problème avec une seule 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élération exponentielle grâce au parallélisme quantique dans l’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73C0-B06F-4082-97A5-F813826131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solidFill>
            <a:srgbClr val="779f9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068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3284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4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85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580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34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07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71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2852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997360"/>
            <a:ext cx="503280" cy="576000"/>
          </a:xfrm>
          <a:prstGeom prst="ellipse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chin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357720"/>
            <a:ext cx="1800360" cy="2879640"/>
          </a:xfrm>
          <a:prstGeom prst="rect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357720"/>
            <a:ext cx="360360" cy="2735280"/>
          </a:xfrm>
          <a:prstGeom prst="rect">
            <a:avLst/>
          </a:prstGeom>
          <a:solidFill>
            <a:srgbClr val="779f92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980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980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07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16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1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64000" y="400500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944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B905-C88E-462C-9319-CCAF7A4AC1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DA11-D562-4ECC-9C8D-1A99B4867A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 quantique (Q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est le produit de deux n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formule est utilisée dans de nombreuses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informatique quan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984240" y="417024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47640" y="2479680"/>
            <a:ext cx="6409080" cy="1236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9640" y="17002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unitaire sur     qubits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356000" y="1866960"/>
            <a:ext cx="287280" cy="19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36F5-89A1-466B-A272-45F3165741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9175-6E61-44F6-AF0F-E914B6A2FD9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 (19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dans une liste non structurée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éléments        un élément partic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es éléments au hasard, un par 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93080" y="220680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916360" y="25750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492960" y="2560680"/>
            <a:ext cx="1116000" cy="409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90920" y="4559400"/>
            <a:ext cx="129384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33AD-FB6B-4083-B2D2-1646510B822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lace les différentes positions de la liste dans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quantique, qu’on place dans une superposition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les états      représentent la position de l’élément dan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79640" y="4114800"/>
            <a:ext cx="5056200" cy="546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157480" y="5033880"/>
            <a:ext cx="398520" cy="276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564000" y="5562720"/>
            <a:ext cx="230328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001D-7E44-4B24-9697-C7E04F3479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 l’opérateur unitaire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la suite de transform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le signe de tous les composants sa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84320" cy="19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165400" y="3357720"/>
            <a:ext cx="4638600" cy="336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8028000" y="547056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B2E3-8863-4FC9-B46D-8CE91F168F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pplique        ,                         fois,               et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que est donc pres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92560" y="2865600"/>
            <a:ext cx="2935080" cy="34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2808360" cy="341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627280" y="4040280"/>
            <a:ext cx="432000" cy="303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76720" y="3995640"/>
            <a:ext cx="2016000" cy="34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940360" y="4032360"/>
            <a:ext cx="1079640" cy="311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4427640" y="4487760"/>
            <a:ext cx="233280" cy="2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2289-A4A0-4A12-AE7B-31BA12D2504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é d’erreur dans la mesure de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1244520" cy="40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807160" y="278136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224000" cy="3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2F5B-67E7-4376-AC0E-D091E86887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CFE3-529B-4E48-BF66-F1C6D4E0FCD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 (19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la péri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’une fonction enti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iodi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e méthode analy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valuer          pour         valeurs de    et découvrir qu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onction se rép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138560" y="2238480"/>
            <a:ext cx="217440" cy="195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71640" y="5445000"/>
            <a:ext cx="2003400" cy="46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354560" y="2637000"/>
            <a:ext cx="2305080" cy="390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979640" y="4365720"/>
            <a:ext cx="719280" cy="35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490920" y="4413240"/>
            <a:ext cx="576360" cy="31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610240" y="4448160"/>
            <a:ext cx="208080" cy="1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E6D0-5D42-4274-B903-737CA1C3FB7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de règ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fini d’états in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an d’entré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mposé de symboles bi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ment suivant du ruban dans la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également défin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est la sor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e machine de Turing quand l’entrée est le ruban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hine de Turing univers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rdinateur universel capable de simuler le comportement de n’importe quel 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2089080" cy="280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517840"/>
            <a:ext cx="269640" cy="23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32720" y="2997360"/>
            <a:ext cx="198360" cy="19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216000" cy="176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44000" y="3368520"/>
            <a:ext cx="203040" cy="2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140360" y="3789360"/>
            <a:ext cx="577800" cy="3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92720" y="378936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669080" y="4332240"/>
            <a:ext cx="216000" cy="17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3132000" y="6021360"/>
            <a:ext cx="2951280" cy="366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435640" y="4724280"/>
            <a:ext cx="325440" cy="2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8FA3-FBFA-4F87-953F-3C14378B1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35280" y="436572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195640" y="3645000"/>
            <a:ext cx="468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450864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335772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429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7640" y="42908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364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08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2280" y="4292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5076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832040" y="350028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02252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7960" y="42861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36440" cy="111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195640" y="4581360"/>
            <a:ext cx="136440" cy="1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7B15-6421-4575-8BFB-4832FEA720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lus           (pour l’espace de travail) qubit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s      qubits sont divisés en 2 registres    et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  sont initialement préparés dans l’état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0360" cy="209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160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1616040" y="2827440"/>
            <a:ext cx="723960" cy="31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1174680" y="4003560"/>
            <a:ext cx="37296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544680" y="4538520"/>
            <a:ext cx="13968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6083280" y="4103640"/>
            <a:ext cx="144360" cy="117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6737400" y="4076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6372360" y="4457880"/>
            <a:ext cx="291960" cy="26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D03F-82F9-4BDD-BAD8-F5C6FFDD09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(équivalent dans ce cas à une transform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urier) à   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283860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340000" y="3330720"/>
            <a:ext cx="208080" cy="169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352680" y="4172040"/>
            <a:ext cx="286236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6264-D1F4-4C86-B73F-4C79968D3D6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  définie p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alors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27400" y="2855880"/>
            <a:ext cx="37296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21240" cy="479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220920" cy="104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C073-9455-4850-95AB-67B54E0D74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serve    , qui donne une valeur uniqu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 total devient a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                               sont les valeurs de    p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quelles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212760" cy="271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516720" y="2781360"/>
            <a:ext cx="360360" cy="328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771640" y="3666960"/>
            <a:ext cx="3748320" cy="1130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927000" y="5049720"/>
            <a:ext cx="3390840" cy="244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20000" y="5051520"/>
            <a:ext cx="216000" cy="177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979640" y="5465880"/>
            <a:ext cx="1152360" cy="26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8BE1-BFDF-44E0-8721-6D059E9762F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alors la transformée de Fourier et on obt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1655640" cy="361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76720" y="3973680"/>
            <a:ext cx="2447640" cy="968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95280" y="5354640"/>
            <a:ext cx="673272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ED43-F530-4DF8-9CDF-3DDF107EA9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un multiple de   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n’ont pas de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uffit alors de transformer          en fraction irré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ont un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gorithme échoue alors et il faut le recomm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répétitions néces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1871640" cy="401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37000" y="5300640"/>
            <a:ext cx="1287360" cy="33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73160" cy="23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476360" y="3262320"/>
            <a:ext cx="174600" cy="237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2124000" y="4221000"/>
            <a:ext cx="144360" cy="130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2124000" y="3357720"/>
            <a:ext cx="144360" cy="129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>
            <a:off x="5219640" y="3670200"/>
            <a:ext cx="719280" cy="3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7C87-C6EF-4D5E-96ED-1296D150643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) Cryptage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cryptage par la clef publi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dage par clef priv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    peut-être facilement déterminée à partir de     e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cteurs de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écod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algo de Sie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303640" cy="271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2232000" cy="322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14480" cy="187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14120" cy="185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4859280" y="2781360"/>
            <a:ext cx="792360" cy="360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36000" y="5229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2124000" y="5661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4140360" y="5877000"/>
            <a:ext cx="4282920" cy="3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E3D3-A117-413D-A8FB-0A056255823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) Utilisation de l’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i    est pair,               a un facteur commun avec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utilise alors l’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algorithme d’Euclid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our le trou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ugmentation de vit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352680" y="2797200"/>
            <a:ext cx="4098960" cy="31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00000" y="3340080"/>
            <a:ext cx="142920" cy="128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68360" y="3173400"/>
            <a:ext cx="1165320" cy="326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7236000" y="33228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115236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4501-939D-4A0B-80E7-2CC81224D6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EF67-5575-4350-B55E-4497E697D08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hès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e fonction qui pourrait naturellement ê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sidérée comme calculable (déci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calculée pa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Machine de Turing universell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EEB2-EBDF-46A8-AAD4-434C0A3CAC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antum Computer Emulator (Q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cro-instructions (MI) dépendent de l’implémentation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gramme écrit à partir de ces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évolution temporelle donnée par résolution de l’équation de Schröd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3F78-83B7-4C98-A5F3-5797B074A86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très ambi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licable dans de nombreux problèmes (décryptage, calcul, simulation quantiqu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se à profit de propriétés purement quan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algorithmes ont été inventés après 1990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remières réalisation pratiques réalisées après 1995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Winenlan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343C-776B-4505-87FC-AC170EFCA6A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énormes difficulté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iter les interactions avec l’environnement (phénomènes de décohérence, émission spontanée, dépolar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oûteux et encombrant (cryogénie, aimant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éo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algorithmes rares malgré le nombre croissant de cherch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é des codes corr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7F4C-B2D1-461E-A79D-2095E8E201D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ux types de problèmes (Gö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f « 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blème de l’arrê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ortant car permettrait de résoudre ce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mathématiques (conjectu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ldbach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7FA7-B2E4-43BE-B9D8-743A115D9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mbre d’étap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écessaires à une machin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ésoudre le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ô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taille de l’entrée (généralement le nombre de bits nécessaire pour encoder le problè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«  Hard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pend de faç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a taille de l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ème dont la solution peut être vérifiée en un temps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F22B-5770-43CE-ADB6-459197350A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4C33-74DE-4181-9074-A82C6CEC4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1:15:10Z</dcterms:created>
  <dc:creator>Maxime</dc:creator>
  <dc:description/>
  <dc:language>en-US</dc:language>
  <cp:lastModifiedBy>Maxime</cp:lastModifiedBy>
  <dcterms:modified xsi:type="dcterms:W3CDTF">2004-05-26T21:14:22Z</dcterms:modified>
  <cp:revision>141</cp:revision>
  <dc:subject/>
  <dc:title>Informatique quantique</dc:title>
</cp:coreProperties>
</file>